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59C-F532-47AF-A253-C37CB604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38D-8CCB-41B7-899D-72618AD6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29E-5C06-4095-BA23-12D672AF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C28-E945-4D46-9B0E-4649BEB9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C0E-9250-4EC7-B116-E920F187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B2F-8BCE-478D-81FA-A5EFD470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E9C-5E18-4D7F-B50D-C7F63422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52E-4E15-43C3-904B-1E55CE7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0FD-64E2-4A00-B527-F9845AEB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999-5AF4-451C-BC71-06FB32C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F76-0B78-4EE3-B4BA-B038B95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0F3-0C81-4EC6-A5D6-19584DC6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7096-24BE-4B8D-B6E3-19E69BF0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00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835280" y="1773360"/>
            <a:ext cx="2016000" cy="3095640"/>
            <a:chOff x="1835280" y="1773360"/>
            <a:chExt cx="2016000" cy="3095640"/>
          </a:xfrm>
        </p:grpSpPr>
        <p:sp>
          <p:nvSpPr>
            <p:cNvPr id="4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635280" y="3789360"/>
              <a:ext cx="216000" cy="9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35280" y="4724280"/>
              <a:ext cx="73080" cy="1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924360" y="1773360"/>
            <a:ext cx="863280" cy="3095640"/>
            <a:chOff x="3924360" y="1773360"/>
            <a:chExt cx="863280" cy="3095640"/>
          </a:xfrm>
        </p:grpSpPr>
        <p:sp>
          <p:nvSpPr>
            <p:cNvPr id="4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3860640"/>
              <a:ext cx="0" cy="1008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95640" y="1844640"/>
            <a:ext cx="3024000" cy="3024360"/>
            <a:chOff x="3995640" y="1844640"/>
            <a:chExt cx="3024000" cy="3024360"/>
          </a:xfrm>
        </p:grpSpPr>
        <p:sp>
          <p:nvSpPr>
            <p:cNvPr id="56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5640" y="3860640"/>
              <a:ext cx="216000" cy="86364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140360" y="4653000"/>
              <a:ext cx="71280" cy="2160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80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3040" y="36450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71755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68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71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77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24360" y="3789360"/>
            <a:ext cx="0" cy="1077840"/>
            <a:chOff x="3924360" y="3789360"/>
            <a:chExt cx="0" cy="1077840"/>
          </a:xfrm>
        </p:grpSpPr>
        <p:sp>
          <p:nvSpPr>
            <p:cNvPr id="80" name=""/>
            <p:cNvSpPr/>
            <p:nvPr/>
          </p:nvSpPr>
          <p:spPr>
            <a:xfrm>
              <a:off x="3924360" y="3789360"/>
              <a:ext cx="0" cy="358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4360" y="4149720"/>
              <a:ext cx="0" cy="3589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508640"/>
              <a:ext cx="0" cy="3585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2520" y="4508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77640" y="4097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24320" y="38606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7848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924360" y="3573360"/>
            <a:ext cx="2734920" cy="1295640"/>
            <a:chOff x="3924360" y="3573360"/>
            <a:chExt cx="2734920" cy="1295640"/>
          </a:xfrm>
        </p:grpSpPr>
        <p:sp>
          <p:nvSpPr>
            <p:cNvPr id="91" name=""/>
            <p:cNvSpPr/>
            <p:nvPr/>
          </p:nvSpPr>
          <p:spPr>
            <a:xfrm>
              <a:off x="3924360" y="3789360"/>
              <a:ext cx="0" cy="107964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85600" y="3573360"/>
              <a:ext cx="217368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7853400" cy="262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7080" y="45086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944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835280" y="1773360"/>
            <a:ext cx="4752720" cy="1368360"/>
            <a:chOff x="1835280" y="1773360"/>
            <a:chExt cx="4752720" cy="1368360"/>
          </a:xfrm>
        </p:grpSpPr>
        <p:sp>
          <p:nvSpPr>
            <p:cNvPr id="10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32360" y="3141720"/>
              <a:ext cx="165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9816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24360" y="1773360"/>
            <a:ext cx="2592360" cy="1511280"/>
            <a:chOff x="3924360" y="1773360"/>
            <a:chExt cx="2592360" cy="1511280"/>
          </a:xfrm>
        </p:grpSpPr>
        <p:sp>
          <p:nvSpPr>
            <p:cNvPr id="10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8000" y="3284640"/>
              <a:ext cx="1728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1844640"/>
            <a:ext cx="2592000" cy="1584360"/>
            <a:chOff x="4427640" y="1844640"/>
            <a:chExt cx="2592000" cy="1584360"/>
          </a:xfrm>
        </p:grpSpPr>
        <p:sp>
          <p:nvSpPr>
            <p:cNvPr id="113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43280" y="3429000"/>
              <a:ext cx="194472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23600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813720" cy="2568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488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3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095240" y="3716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3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3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427640" y="3573360"/>
            <a:ext cx="2089080" cy="0"/>
            <a:chOff x="4427640" y="3573360"/>
            <a:chExt cx="2089080" cy="0"/>
          </a:xfrm>
        </p:grpSpPr>
        <p:sp>
          <p:nvSpPr>
            <p:cNvPr id="141" name=""/>
            <p:cNvSpPr/>
            <p:nvPr/>
          </p:nvSpPr>
          <p:spPr>
            <a:xfrm>
              <a:off x="4427640" y="3573360"/>
              <a:ext cx="431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3573360"/>
              <a:ext cx="50472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363640" y="3573360"/>
              <a:ext cx="57636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0360" y="3573360"/>
              <a:ext cx="576360" cy="0"/>
            </a:xfrm>
            <a:prstGeom prst="line">
              <a:avLst/>
            </a:prstGeom>
            <a:ln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16436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30000" y="3232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7235640" cy="2746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6160" y="2997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6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22160" y="3500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6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6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35280" y="2492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5800" y="2924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75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78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980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488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416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84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24320" y="350028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4880" y="63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995640" y="3789360"/>
            <a:ext cx="0" cy="1079640"/>
            <a:chOff x="3995640" y="3789360"/>
            <a:chExt cx="0" cy="1079640"/>
          </a:xfrm>
        </p:grpSpPr>
        <p:sp>
          <p:nvSpPr>
            <p:cNvPr id="189" name=""/>
            <p:cNvSpPr/>
            <p:nvPr/>
          </p:nvSpPr>
          <p:spPr>
            <a:xfrm>
              <a:off x="3995640" y="3789360"/>
              <a:ext cx="0" cy="360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95640" y="4149720"/>
              <a:ext cx="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5640" y="4508640"/>
              <a:ext cx="0" cy="3603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63640" y="1844280"/>
            <a:ext cx="5329440" cy="1224360"/>
            <a:chOff x="1763640" y="1844280"/>
            <a:chExt cx="5329440" cy="1224360"/>
          </a:xfrm>
        </p:grpSpPr>
        <p:sp>
          <p:nvSpPr>
            <p:cNvPr id="194" name=""/>
            <p:cNvSpPr/>
            <p:nvPr/>
          </p:nvSpPr>
          <p:spPr>
            <a:xfrm flipH="1" flipV="1">
              <a:off x="1763640" y="1844640"/>
              <a:ext cx="1656000" cy="12240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771280" y="1844640"/>
              <a:ext cx="79236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51280" y="1844280"/>
              <a:ext cx="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67280" y="1844640"/>
              <a:ext cx="64908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27640" y="1844280"/>
              <a:ext cx="136836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859280" y="1844640"/>
              <a:ext cx="223380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42520" y="429264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ff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 v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, 2 e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2880" y="25653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Diffuse le vla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8109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35280" y="1773360"/>
            <a:ext cx="2089080" cy="3095640"/>
            <a:chOff x="1835280" y="1773360"/>
            <a:chExt cx="2089080" cy="3095640"/>
          </a:xfrm>
        </p:grpSpPr>
        <p:sp>
          <p:nvSpPr>
            <p:cNvPr id="206" name=""/>
            <p:cNvSpPr/>
            <p:nvPr/>
          </p:nvSpPr>
          <p:spPr>
            <a:xfrm>
              <a:off x="1835280" y="1773360"/>
              <a:ext cx="2089080" cy="15112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24360" y="3284640"/>
              <a:ext cx="0" cy="158436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43280" y="1773360"/>
            <a:ext cx="1081080" cy="1584360"/>
            <a:chOff x="2843280" y="1773360"/>
            <a:chExt cx="1081080" cy="1584360"/>
          </a:xfrm>
        </p:grpSpPr>
        <p:sp>
          <p:nvSpPr>
            <p:cNvPr id="209" name=""/>
            <p:cNvSpPr/>
            <p:nvPr/>
          </p:nvSpPr>
          <p:spPr>
            <a:xfrm>
              <a:off x="2843280" y="1773360"/>
              <a:ext cx="1081080" cy="15843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4360" y="1844640"/>
              <a:ext cx="0" cy="1513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987640" y="2133720"/>
            <a:ext cx="1223640" cy="1008000"/>
            <a:chOff x="2987640" y="2133720"/>
            <a:chExt cx="1223640" cy="1008000"/>
          </a:xfrm>
        </p:grpSpPr>
        <p:sp>
          <p:nvSpPr>
            <p:cNvPr id="212" name=""/>
            <p:cNvSpPr/>
            <p:nvPr/>
          </p:nvSpPr>
          <p:spPr>
            <a:xfrm flipH="1">
              <a:off x="3131640" y="2133720"/>
              <a:ext cx="1079640" cy="10080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987640" y="2204640"/>
              <a:ext cx="1152720" cy="863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89440" y="2637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inter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916360" y="2728800"/>
            <a:ext cx="4373640" cy="412920"/>
            <a:chOff x="2916360" y="2728800"/>
            <a:chExt cx="4373640" cy="412920"/>
          </a:xfrm>
        </p:grpSpPr>
        <p:sp>
          <p:nvSpPr>
            <p:cNvPr id="216" name=""/>
            <p:cNvSpPr/>
            <p:nvPr/>
          </p:nvSpPr>
          <p:spPr>
            <a:xfrm>
              <a:off x="2916360" y="2781360"/>
              <a:ext cx="2447640" cy="360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6000" y="272880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Ports « isolated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694880" y="4076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autor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3645000"/>
            <a:ext cx="3040200" cy="388800"/>
            <a:chOff x="3635280" y="3645000"/>
            <a:chExt cx="3040200" cy="388800"/>
          </a:xfrm>
        </p:grpSpPr>
        <p:sp>
          <p:nvSpPr>
            <p:cNvPr id="220" name=""/>
            <p:cNvSpPr/>
            <p:nvPr/>
          </p:nvSpPr>
          <p:spPr>
            <a:xfrm>
              <a:off x="3635280" y="3645000"/>
              <a:ext cx="576360" cy="360360"/>
            </a:xfrm>
            <a:prstGeom prst="ellipse">
              <a:avLst/>
            </a:prstGeom>
            <a:noFill/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8360" y="366552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8000"/>
                  </a:solidFill>
                  <a:latin typeface="Arial"/>
                </a:rPr>
                <a:t>Port « promiscuou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153040" y="407664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78278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3600" y="90792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LAN1 « protected »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4520" y="328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Vlan2 -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8880" y="465300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serelle :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35280" y="1773360"/>
            <a:ext cx="5184720" cy="1295280"/>
            <a:chOff x="1835280" y="1773360"/>
            <a:chExt cx="5184720" cy="1295280"/>
          </a:xfrm>
        </p:grpSpPr>
        <p:sp>
          <p:nvSpPr>
            <p:cNvPr id="233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4360" y="1844640"/>
              <a:ext cx="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211280" y="1844640"/>
              <a:ext cx="5763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500720" y="1844640"/>
              <a:ext cx="13665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788000" y="1844640"/>
              <a:ext cx="223200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240" y="44370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ègles de filtrage 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74836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9:55:28Z</dcterms:created>
  <dc:creator>Daniel Regnier</dc:creator>
  <dc:description/>
  <dc:language>en-US</dc:language>
  <cp:lastModifiedBy>lycee paul Claudel</cp:lastModifiedBy>
  <dcterms:modified xsi:type="dcterms:W3CDTF">2011-01-26T14:53:42Z</dcterms:modified>
  <cp:revision>30</cp:revision>
  <dc:subject/>
  <dc:title>Exonet</dc:title>
</cp:coreProperties>
</file>