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8BC-FCB1-492D-B450-36146DDD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1680" y="681552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410-3642-4612-A8C5-35443A2F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224-5727-40BE-80BE-762BB738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960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520" y="326880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168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960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520" y="6815520"/>
            <a:ext cx="43786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093-3035-48DA-AC47-9E460E35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882F-EF99-47E5-B5D8-D45D44DA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D36-65C4-4D16-87F0-8B6EB7E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821-7A81-4E88-B492-3A63D137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05F-AA9D-42DC-9577-68C252BB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1680" y="1006200"/>
            <a:ext cx="1359864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4DF-71BB-432A-B985-FB62BFD8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998-065C-4197-A7F4-FA4475C8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EA6-8207-4CCC-BE61-B5301DC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168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588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1680" y="6815520"/>
            <a:ext cx="1359864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66D-E2C5-40A0-A833-A167D1E5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1680" y="1006200"/>
            <a:ext cx="1359864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1680" y="3268800"/>
            <a:ext cx="1359864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1320" y="10308960"/>
            <a:ext cx="33339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5880" y="10308960"/>
            <a:ext cx="507024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6000" y="10308960"/>
            <a:ext cx="33339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A3C82B6C-934F-4B87-A617-D8E300F333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9360" y="6162840"/>
            <a:ext cx="2438640" cy="158472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value-of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ermet d’extraire du document XML le contenu de la balise sélectionnée par l’attribut </a:t>
            </a:r>
            <a:r>
              <a:rPr b="1" lang="fr-FR" sz="1200" spc="-1" strike="noStrike">
                <a:solidFill>
                  <a:srgbClr val="990000"/>
                </a:solidFill>
                <a:latin typeface="Verdana"/>
              </a:rPr>
              <a:t>select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(ici 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")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’est-à-dire, successivement, les noms des modèles d’avions : «123», «123xml» et «123xml Stretch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09360" y="4545000"/>
            <a:ext cx="2438640" cy="14022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for-each</a:t>
            </a:r>
            <a:r>
              <a:rPr b="0" lang="fr-FR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it une boucle sur l’ensemble des nœuds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il y en a 3)  en exécutant à chaque boucle les instructions situées avant sa balise de fermeture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lt;/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xsl:for-each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8640" y="1265400"/>
            <a:ext cx="14238360" cy="13172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333399"/>
                </a:solidFill>
                <a:uFillTx/>
                <a:latin typeface="Verdana"/>
                <a:ea typeface="Arial"/>
              </a:rPr>
              <a:t>Principe de la transformation 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Le document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SL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permet d’associer les balises d’un document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ML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à du code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HTML 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dans le but de présenter l’information contenue dans le document XML. Les balises XSL sont associées à l’espace de noms « xsl: » On y trouve aussi des éléments de langage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Xpath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qui permet de définir la position des noeuds en indiquant leur chemin dans l’arborescence XML.  Ici, des modèles d’avions sont présentés dans un tableau HTML. Pour chaque modèle d’avion (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encadré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jaune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) on affiche son nom en gras (balise HTML 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  <a:ea typeface="Arial"/>
              </a:rPr>
              <a:t>b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&gt;). Ensuite, pour chaque caractéristique (</a:t>
            </a:r>
            <a:r>
              <a:rPr b="1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encadré bleu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), on ajoute une ligne (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tr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&gt;)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 au tableau, en affichant d’abord le nom de la caractéristique (en clair dans le document XSL) dans une première colonne, puis, pour chaque modèle, la valeur de cette caractéristique dans une nouvelle colonne (&lt;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  <a:ea typeface="Arial"/>
              </a:rPr>
              <a:t>td</a:t>
            </a:r>
            <a:r>
              <a:rPr b="0" lang="fr-FR" sz="1200" spc="-1" strike="noStrike">
                <a:solidFill>
                  <a:srgbClr val="333399"/>
                </a:solidFill>
                <a:latin typeface="Verdana"/>
                <a:ea typeface="Arial"/>
              </a:rPr>
              <a:t>&gt;). Ainsi de suite pour toutes les caractéristiques</a:t>
            </a:r>
            <a:r>
              <a:rPr b="0" lang="fr-FR" sz="12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59240" y="185760"/>
            <a:ext cx="5862960" cy="9147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ransformation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 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609360" y="2921040"/>
            <a:ext cx="2438640" cy="143280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Quelques balises XSLT</a:t>
            </a: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</a:rPr>
              <a:t>xsl:template</a:t>
            </a:r>
            <a:r>
              <a:rPr b="0" lang="fr-FR" sz="1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contient les transformations à appliquer quand le nœud spécifié par l’attribut</a:t>
            </a:r>
            <a:r>
              <a:rPr b="0" lang="fr-FR" sz="1200" spc="-1" strike="noStrike">
                <a:solidFill>
                  <a:srgbClr val="990000"/>
                </a:solidFill>
                <a:latin typeface="Verdana"/>
              </a:rPr>
              <a:t> match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(ici 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odels</a:t>
            </a:r>
            <a:r>
              <a:rPr b="0" lang="fr-FR" sz="1200" spc="-1" strike="noStrike">
                <a:solidFill>
                  <a:srgbClr val="0000ff"/>
                </a:solidFill>
                <a:latin typeface="Verdana"/>
              </a:rPr>
              <a:t>"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) est rencontré dans le code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55560" y="2921040"/>
            <a:ext cx="5616360" cy="4720680"/>
            <a:chOff x="655560" y="2921040"/>
            <a:chExt cx="5616360" cy="4720680"/>
          </a:xfrm>
        </p:grpSpPr>
        <p:sp>
          <p:nvSpPr>
            <p:cNvPr id="47" name=""/>
            <p:cNvSpPr/>
            <p:nvPr/>
          </p:nvSpPr>
          <p:spPr>
            <a:xfrm>
              <a:off x="655560" y="2921040"/>
              <a:ext cx="5616360" cy="47206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XML contenant les informations sur des modèles d’avions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ff0000"/>
                </a:buClr>
                <a:buFont typeface="Courier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  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910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52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ZeroFuel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55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ZeroFuel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EngineOffering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GE, P+W, and R-R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EngineOffering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FuelCapacity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0305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FuelCapacity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CruiseM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0.855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CruiseM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ssenger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16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ssenger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DesignRang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75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DesignRang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LowerHoldVolu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876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LowerHoldVolu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llet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Pallet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23xm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43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 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68500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MaxLanding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     …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74320" y="3835440"/>
              <a:ext cx="1760040" cy="2286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0640" y="3606840"/>
              <a:ext cx="732600" cy="1998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7640" y="6683400"/>
              <a:ext cx="1922760" cy="2286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62360" y="6468840"/>
              <a:ext cx="732600" cy="2286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7920" y="3386160"/>
              <a:ext cx="976680" cy="22860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929200" y="103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488280" y="2921040"/>
            <a:ext cx="5914800" cy="4606200"/>
            <a:chOff x="6488280" y="2921040"/>
            <a:chExt cx="5914800" cy="4606200"/>
          </a:xfrm>
        </p:grpSpPr>
        <p:sp>
          <p:nvSpPr>
            <p:cNvPr id="55" name=""/>
            <p:cNvSpPr/>
            <p:nvPr/>
          </p:nvSpPr>
          <p:spPr>
            <a:xfrm>
              <a:off x="6488280" y="2921040"/>
              <a:ext cx="5914800" cy="4606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XSL qui présente les modèles d’avions dans un tableau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template mat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able widt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rincipal Characteristics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 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0808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value-of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 /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0C0C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. Takeoff 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 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value-of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selec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Takeoff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 /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xsl:for-each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r bgcolor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"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0C0C0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ax. Landing Weight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lt;/</a:t>
              </a:r>
              <a:r>
                <a:rPr b="0" lang="fr-FR" sz="1200" spc="-1" strike="noStrike">
                  <a:solidFill>
                    <a:srgbClr val="990000"/>
                  </a:solidFill>
                  <a:latin typeface="Arial"/>
                </a:rPr>
                <a:t>td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&gt;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926560" y="4506840"/>
              <a:ext cx="1647720" cy="228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78640" y="4292640"/>
              <a:ext cx="1981440" cy="228600"/>
            </a:xfrm>
            <a:prstGeom prst="rect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64240" y="3409920"/>
              <a:ext cx="2362320" cy="228600"/>
            </a:xfrm>
            <a:prstGeom prst="rect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61000" y="3857760"/>
              <a:ext cx="5688000" cy="151272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61000" y="5513400"/>
              <a:ext cx="5688000" cy="11523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7785000" y="8105760"/>
            <a:ext cx="7293240" cy="2514600"/>
            <a:chOff x="7785000" y="8105760"/>
            <a:chExt cx="7293240" cy="25146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rcRect l="0" t="0" r="0" b="22742"/>
            <a:stretch/>
          </p:blipFill>
          <p:spPr>
            <a:xfrm>
              <a:off x="7785000" y="8486640"/>
              <a:ext cx="729324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856640" y="8610480"/>
              <a:ext cx="7129440" cy="21600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32160" y="8151840"/>
              <a:ext cx="330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ffichage obtenu dans la page 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39000" y="8105760"/>
              <a:ext cx="7239240" cy="25146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56640" y="8897760"/>
              <a:ext cx="7129440" cy="216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529000" y="8034480"/>
            <a:ext cx="3886200" cy="2831760"/>
            <a:chOff x="2529000" y="8034480"/>
            <a:chExt cx="3886200" cy="2831760"/>
          </a:xfrm>
        </p:grpSpPr>
        <p:sp>
          <p:nvSpPr>
            <p:cNvPr id="68" name=""/>
            <p:cNvSpPr/>
            <p:nvPr/>
          </p:nvSpPr>
          <p:spPr>
            <a:xfrm>
              <a:off x="2529000" y="8034480"/>
              <a:ext cx="3886200" cy="28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able width="100%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r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&gt;Principal Characteristics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&lt;/b&gt;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xml&lt;/b&gt;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 bgcolor="808080"&gt;&lt;b&gt;123xml Stretch&lt;/b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/tr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r bgcolor="C0C0C0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&lt;td&gt;Max. Takeoff Weight&lt;/td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1280" y="8615520"/>
              <a:ext cx="3581280" cy="1292040"/>
            </a:xfrm>
            <a:prstGeom prst="rect">
              <a:avLst/>
            </a:prstGeom>
            <a:noFill/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98120" y="8107200"/>
              <a:ext cx="196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Code HTML résul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1920" y="10050480"/>
              <a:ext cx="3581280" cy="5713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192640" y="6378480"/>
            <a:ext cx="793800" cy="2158920"/>
          </a:xfrm>
          <a:prstGeom prst="downArrow">
            <a:avLst>
              <a:gd name="adj1" fmla="val 50000"/>
              <a:gd name="adj2" fmla="val 679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rot="16200000">
            <a:off x="6163920" y="6846120"/>
            <a:ext cx="934920" cy="1584360"/>
          </a:xfrm>
          <a:custGeom>
            <a:avLst/>
            <a:gdLst>
              <a:gd name="textAreaLeft" fmla="*/ 420120 w 934920"/>
              <a:gd name="textAreaRight" fmla="*/ 769320 w 934920"/>
              <a:gd name="textAreaTop" fmla="*/ 992880 h 1584360"/>
              <a:gd name="textAreaBottom" fmla="*/ 13046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7353"/>
                </a:moveTo>
                <a:lnTo>
                  <a:pt x="13536" y="17353"/>
                </a:lnTo>
                <a:lnTo>
                  <a:pt x="13536" y="9719"/>
                </a:lnTo>
                <a:lnTo>
                  <a:pt x="9719" y="9719"/>
                </a:lnTo>
                <a:lnTo>
                  <a:pt x="15660" y="0"/>
                </a:lnTo>
                <a:lnTo>
                  <a:pt x="21600" y="9719"/>
                </a:lnTo>
                <a:lnTo>
                  <a:pt x="17783" y="9719"/>
                </a:lnTo>
                <a:lnTo>
                  <a:pt x="1778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4744800" y="7119000"/>
            <a:ext cx="166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4T19:31:09Z</dcterms:created>
  <dc:creator>Réseau Certa</dc:creator>
  <dc:description/>
  <dc:language>en-US</dc:language>
  <cp:lastModifiedBy>Eric Deschaintre</cp:lastModifiedBy>
  <dcterms:modified xsi:type="dcterms:W3CDTF">2004-09-06T09:55:57Z</dcterms:modified>
  <cp:revision>97</cp:revision>
  <dc:subject/>
  <dc:title>Présentation PowerPoint</dc:title>
</cp:coreProperties>
</file>