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611-E10C-43D7-AE77-F9EAEE5F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A44-B774-4360-83F1-611C5F3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80F-858C-4AEC-A9AC-5D8E18A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EC6-9879-4094-BAE2-FCA7F8D1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ED3-53D2-4558-8A7F-66087139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C74-0263-432A-9966-8239731B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730-EAF9-4F4B-AAB1-E44D981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0FD-8B7E-4251-B989-2720BFE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9DF-8848-437C-8C04-48D939F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C42-4217-42C5-9923-0D562EB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E12-2D39-4FB4-A63C-710D2E4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F95-01AE-43BF-BC27-78A8A87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7FD-466F-414B-8EE6-B7F83B2C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590920"/>
            <a:ext cx="6858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2590920"/>
            <a:ext cx="1295280" cy="26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53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9560" y="4114800"/>
            <a:ext cx="6858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6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33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672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badminton VLAN 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4765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’escrime – VLAN 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476520"/>
            <a:ext cx="2133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764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78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254628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73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0056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387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82080" y="3352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4819680"/>
            <a:ext cx="8380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6120" y="493380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écran de proj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62720" y="3962520"/>
            <a:ext cx="761760" cy="761760"/>
            <a:chOff x="7362720" y="3962520"/>
            <a:chExt cx="761760" cy="761760"/>
          </a:xfrm>
        </p:grpSpPr>
        <p:sp>
          <p:nvSpPr>
            <p:cNvPr id="73" name=""/>
            <p:cNvSpPr/>
            <p:nvPr/>
          </p:nvSpPr>
          <p:spPr>
            <a:xfrm flipV="1">
              <a:off x="7579800" y="3962520"/>
              <a:ext cx="326160" cy="32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664040" y="4255200"/>
              <a:ext cx="162720" cy="5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3627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523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8000" y="39718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Vidéo projec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704880" cy="480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42900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181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352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066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362320" y="4410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324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525780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324480" y="4410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67480" y="1295280"/>
            <a:ext cx="11430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40" y="2700"/>
                </a:moveTo>
                <a:lnTo>
                  <a:pt x="26460" y="2700"/>
                </a:lnTo>
                <a:lnTo>
                  <a:pt x="26460" y="31988"/>
                </a:lnTo>
                <a:lnTo>
                  <a:pt x="11490" y="4455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Ident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e faisa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tie de la 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volley p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n adresse 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257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040" y="52642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ise 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71040" y="525780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ie de brassage de l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51051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47:07Z</dcterms:created>
  <dc:creator>adm.gallot</dc:creator>
  <dc:description/>
  <dc:language>en-US</dc:language>
  <cp:lastModifiedBy>DG</cp:lastModifiedBy>
  <dcterms:modified xsi:type="dcterms:W3CDTF">2012-02-24T16:06:25Z</dcterms:modified>
  <cp:revision>10</cp:revision>
  <dc:subject/>
  <dc:title>Diapositive 1</dc:title>
</cp:coreProperties>
</file>