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725D-891E-4651-A59B-814C9960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F98C-A035-4DE3-976D-73FF278D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861D-9D15-48E2-9BBB-14B128C1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14CF-C972-4A0F-B598-3F35DFDB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E562-5DC5-498A-AFC1-747DBB3B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A726-4EDE-4E9F-AD8F-BBC0975E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B979-5B05-46CF-9E55-10378A0F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701-D43F-4499-B781-3061590B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AF1-0867-4BB8-AF36-C9DDD873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1D7B-CA1D-427F-BE55-33C9BDE2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8107-F122-4747-8B57-9313ED96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051C-93D9-4242-9B6B-4B309BE9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2B40-D2D8-43F2-9789-98D0B6BDC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520" y="150840"/>
            <a:ext cx="6837480" cy="4560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360" y="4707000"/>
            <a:ext cx="6837480" cy="4699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187280"/>
            <a:ext cx="66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440" y="1042920"/>
            <a:ext cx="302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les d’Armes de Villers lès Na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97360" y="1187280"/>
            <a:ext cx="1944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280" y="1476360"/>
            <a:ext cx="640908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, rue Rodin – 54600 Villers-lès-Na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600" y="1951200"/>
            <a:ext cx="66024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ub d’Escr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920" y="1165320"/>
            <a:ext cx="1684440" cy="1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49920" y="37296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9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35280" y="253188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35280" y="834840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8760" y="6343560"/>
            <a:ext cx="25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2, rue de Marron, 54600 Villers-lès-Na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5400" y="6021360"/>
            <a:ext cx="155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an-Christophe Berb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7720" y="665964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52600" y="6659640"/>
            <a:ext cx="113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ers-lès-Na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0160" y="7188120"/>
            <a:ext cx="318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uf cent soixante quatre euros et quarante centi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37160" y="7458120"/>
            <a:ext cx="81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/08/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34800" y="695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64,40 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3:44:41Z</dcterms:created>
  <dc:creator>Denis Gallot</dc:creator>
  <dc:description/>
  <dc:language>en-US</dc:language>
  <cp:lastModifiedBy>Denis Gallot</cp:lastModifiedBy>
  <dcterms:modified xsi:type="dcterms:W3CDTF">2009-11-11T14:33:37Z</dcterms:modified>
  <cp:revision>5</cp:revision>
  <dc:subject/>
  <dc:title>Diapositive 1</dc:title>
</cp:coreProperties>
</file>