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jpeg" ContentType="image/jpe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C4B14-320C-431A-96C8-B81B5B768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57B3C-96B8-4056-9F41-B8C989266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7183F-BFF7-411D-9F0F-4435E7A38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45F75-D88A-4D60-AEB2-5D0D58805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0EF6F-BDBC-46B5-A5D6-12410F17C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0FF84-A635-4750-8822-C18CCBB8F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CACF2-F96D-4576-90E4-33BD11CAA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3ACB4-2C68-4955-99AB-DC9C38438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59868-AB64-4FE7-B43B-8355305DC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0D030-7151-406D-A187-96FB13181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6588B-110E-4DF6-9BC2-921DC32DE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82386-B4F8-4652-B5F9-BC1E65E20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EBA0D-50B5-4025-B8D1-840DB5106E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jpe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image" Target="../media/image1.png"/><Relationship Id="rId11" Type="http://schemas.openxmlformats.org/officeDocument/2006/relationships/image" Target="../media/image7.png"/><Relationship Id="rId1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2.png"/><Relationship Id="rId8" Type="http://schemas.openxmlformats.org/officeDocument/2006/relationships/image" Target="../media/image10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image" Target="../media/image13.png"/><Relationship Id="rId12" Type="http://schemas.openxmlformats.org/officeDocument/2006/relationships/image" Target="../media/image15.jpeg"/><Relationship Id="rId13" Type="http://schemas.openxmlformats.org/officeDocument/2006/relationships/image" Target="../media/image16.png"/><Relationship Id="rId14" Type="http://schemas.openxmlformats.org/officeDocument/2006/relationships/image" Target="../media/image17.png"/><Relationship Id="rId15" Type="http://schemas.openxmlformats.org/officeDocument/2006/relationships/image" Target="../media/image18.jpeg"/><Relationship Id="rId1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43000" y="5783400"/>
            <a:ext cx="6184800" cy="1726920"/>
          </a:xfrm>
          <a:prstGeom prst="roundRect">
            <a:avLst>
              <a:gd name="adj" fmla="val 60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09520" y="1909800"/>
            <a:ext cx="2771640" cy="1727280"/>
          </a:xfrm>
          <a:prstGeom prst="roundRect">
            <a:avLst>
              <a:gd name="adj" fmla="val 404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31840" y="3821040"/>
            <a:ext cx="2771640" cy="1728720"/>
          </a:xfrm>
          <a:prstGeom prst="roundRect">
            <a:avLst>
              <a:gd name="adj" fmla="val 404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32040" y="1905120"/>
            <a:ext cx="2772000" cy="1728720"/>
          </a:xfrm>
          <a:prstGeom prst="roundRect">
            <a:avLst>
              <a:gd name="adj" fmla="val 404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629160" y="3841920"/>
            <a:ext cx="2771640" cy="1728720"/>
          </a:xfrm>
          <a:prstGeom prst="roundRect">
            <a:avLst>
              <a:gd name="adj" fmla="val 404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024360" y="7253280"/>
            <a:ext cx="695160" cy="682560"/>
          </a:xfrm>
          <a:prstGeom prst="upArrow">
            <a:avLst>
              <a:gd name="adj1" fmla="val 38481"/>
              <a:gd name="adj2" fmla="val 51380"/>
            </a:avLst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144960" y="2260440"/>
            <a:ext cx="341280" cy="4024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809800" y="2405160"/>
            <a:ext cx="1049400" cy="8143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19520" y="4300560"/>
            <a:ext cx="1049040" cy="8161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25480" y="1878120"/>
            <a:ext cx="147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Escrime artistiq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330080" y="18716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Escrime spor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11080" y="3778200"/>
            <a:ext cx="155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Espace Confér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194720" y="3808440"/>
            <a:ext cx="1843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tands équipementi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228280" y="7205760"/>
            <a:ext cx="105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hapiteau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94200" y="5848200"/>
            <a:ext cx="438120" cy="551160"/>
          </a:xfrm>
          <a:prstGeom prst="upArrow">
            <a:avLst>
              <a:gd name="adj1" fmla="val 53028"/>
              <a:gd name="adj2" fmla="val 42732"/>
            </a:avLst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20822400">
            <a:off x="3998880" y="6068880"/>
            <a:ext cx="162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Espace restau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755880" y="5891040"/>
            <a:ext cx="0" cy="155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30640" y="6513480"/>
            <a:ext cx="1049400" cy="4017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849320" y="6157800"/>
            <a:ext cx="0" cy="1352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rot="20822400">
            <a:off x="2238480" y="6661080"/>
            <a:ext cx="162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Espace accue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328840" y="7015320"/>
            <a:ext cx="461880" cy="4903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495680" y="4465800"/>
            <a:ext cx="462240" cy="4921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5688000" y="2427120"/>
            <a:ext cx="461880" cy="4921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465120" y="2462040"/>
            <a:ext cx="461880" cy="48924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893880" y="1474920"/>
            <a:ext cx="439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èm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ssises nationales de l’Escr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5"/>
          <a:stretch/>
        </p:blipFill>
        <p:spPr>
          <a:xfrm>
            <a:off x="873000" y="6769080"/>
            <a:ext cx="808200" cy="54144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5249160" y="5288040"/>
            <a:ext cx="105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hapiteau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819800" y="525924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hapiteau 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rot="19977600">
            <a:off x="1940040" y="6267240"/>
            <a:ext cx="914400" cy="16956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rot="20822400">
            <a:off x="344520" y="5785920"/>
            <a:ext cx="162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Espace organisateu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60280" y="6656400"/>
            <a:ext cx="125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20822400">
            <a:off x="360360" y="6897240"/>
            <a:ext cx="44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V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457000" y="7639200"/>
            <a:ext cx="659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Entré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6"/>
          <a:stretch/>
        </p:blipFill>
        <p:spPr>
          <a:xfrm>
            <a:off x="4276800" y="2495520"/>
            <a:ext cx="1046160" cy="5842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7"/>
          <a:stretch/>
        </p:blipFill>
        <p:spPr>
          <a:xfrm>
            <a:off x="1870200" y="2519280"/>
            <a:ext cx="433440" cy="7938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8"/>
          <a:stretch/>
        </p:blipFill>
        <p:spPr>
          <a:xfrm>
            <a:off x="5273640" y="4316400"/>
            <a:ext cx="863640" cy="7812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9"/>
          <a:stretch/>
        </p:blipFill>
        <p:spPr>
          <a:xfrm>
            <a:off x="541440" y="4300560"/>
            <a:ext cx="650880" cy="7365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10"/>
          <a:stretch/>
        </p:blipFill>
        <p:spPr>
          <a:xfrm>
            <a:off x="1730520" y="4361040"/>
            <a:ext cx="461880" cy="48888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3722040" y="331956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hapiteau 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91600" y="3294000"/>
            <a:ext cx="104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hapiteau 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1"/>
          <a:stretch/>
        </p:blipFill>
        <p:spPr>
          <a:xfrm>
            <a:off x="4865760" y="6424560"/>
            <a:ext cx="699840" cy="6984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 rot="16200000">
            <a:off x="2829960" y="3807000"/>
            <a:ext cx="959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ircul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143080" y="5838840"/>
            <a:ext cx="800280" cy="0"/>
          </a:xfrm>
          <a:prstGeom prst="line">
            <a:avLst/>
          </a:prstGeom>
          <a:ln w="381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623600" y="5587920"/>
            <a:ext cx="152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Écran géant d’info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 flipH="1" rot="45600">
            <a:off x="4114440" y="1185480"/>
            <a:ext cx="378000" cy="65736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456080" y="1246320"/>
            <a:ext cx="714240" cy="7142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1344600" y="2009880"/>
            <a:ext cx="0" cy="124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079960" y="1201680"/>
            <a:ext cx="14414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rtable visiteu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SID « public »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client DHCP vlan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3160800" y="2695680"/>
            <a:ext cx="766800" cy="8125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573480" y="652320"/>
            <a:ext cx="1526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int d’accès wifi (x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-25560" y="2298600"/>
            <a:ext cx="1421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aison taggué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ur les vlans 2 e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809720" y="6181560"/>
            <a:ext cx="170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outeur France Tele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839880" y="987480"/>
            <a:ext cx="966600" cy="11350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 flipH="1" rot="20853000">
            <a:off x="2958840" y="411120"/>
            <a:ext cx="377640" cy="6573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6"/>
          <a:stretch/>
        </p:blipFill>
        <p:spPr>
          <a:xfrm>
            <a:off x="3271680" y="237960"/>
            <a:ext cx="714600" cy="7146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3724200" y="263520"/>
            <a:ext cx="20415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rtable organisateu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SID « orga »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ent DHCP vlan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925560" y="3463920"/>
            <a:ext cx="0" cy="126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219320" y="6670800"/>
            <a:ext cx="6120" cy="565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182600" y="5321160"/>
            <a:ext cx="0" cy="96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7"/>
          <a:stretch/>
        </p:blipFill>
        <p:spPr>
          <a:xfrm>
            <a:off x="469800" y="6810480"/>
            <a:ext cx="1292400" cy="76824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740160" y="7061040"/>
            <a:ext cx="76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Inter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146240" y="5778360"/>
            <a:ext cx="916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192.168.1.25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rot="16200000">
            <a:off x="1179360" y="3675240"/>
            <a:ext cx="63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LAN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rot="16200000">
            <a:off x="525600" y="3659400"/>
            <a:ext cx="63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LAN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417760" y="5329080"/>
            <a:ext cx="4170240" cy="692280"/>
          </a:xfrm>
          <a:prstGeom prst="borderCallout2">
            <a:avLst>
              <a:gd name="adj1" fmla="val 18750"/>
              <a:gd name="adj2" fmla="val -8333"/>
              <a:gd name="adj3" fmla="val 16513"/>
              <a:gd name="adj4" fmla="val -8032"/>
              <a:gd name="adj5" fmla="val -35319"/>
              <a:gd name="adj6" fmla="val -14462"/>
            </a:avLst>
          </a:prstGeom>
          <a:solidFill>
            <a:srgbClr val="bbe0e3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outeur MDL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rveur DHCP pour les deux réseaux wifi « public » et « orga »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rvice N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109960" y="2049480"/>
            <a:ext cx="4471920" cy="558720"/>
          </a:xfrm>
          <a:prstGeom prst="borderCallout2">
            <a:avLst>
              <a:gd name="adj1" fmla="val 18750"/>
              <a:gd name="adj2" fmla="val -8333"/>
              <a:gd name="adj3" fmla="val 20453"/>
              <a:gd name="adj4" fmla="val -5680"/>
              <a:gd name="adj5" fmla="val -40342"/>
              <a:gd name="adj6" fmla="val -9657"/>
            </a:avLst>
          </a:prstGeom>
          <a:solidFill>
            <a:srgbClr val="bbe0e3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SSID « admin » non diffusé - WPA2 - VLAN 1 administration– réseau 172.16.0.0/16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SSID « orga » non diffusé WPA2 – VLAN 2 - réseau 10.10.10.0/24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SSID « public » diffusé WPA2 - VLAN 3 – réseau 172.31.1.0/24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8"/>
          <a:stretch/>
        </p:blipFill>
        <p:spPr>
          <a:xfrm>
            <a:off x="2681280" y="4111560"/>
            <a:ext cx="766800" cy="81288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423000" y="5477040"/>
            <a:ext cx="788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192.168.1.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Router Clip Art"/>
          <p:cNvPicPr/>
          <p:nvPr/>
        </p:nvPicPr>
        <p:blipFill>
          <a:blip r:embed="rId9"/>
          <a:stretch/>
        </p:blipFill>
        <p:spPr>
          <a:xfrm>
            <a:off x="441360" y="4640400"/>
            <a:ext cx="1625400" cy="89208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824040" y="4483080"/>
            <a:ext cx="215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E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1" name=""/>
          <p:cNvCxnSpPr/>
          <p:nvPr/>
        </p:nvCxnSpPr>
        <p:spPr>
          <a:xfrm>
            <a:off x="2435040" y="3241800"/>
            <a:ext cx="811800" cy="324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12" name=""/>
          <p:cNvSpPr/>
          <p:nvPr/>
        </p:nvSpPr>
        <p:spPr>
          <a:xfrm>
            <a:off x="2200320" y="3438360"/>
            <a:ext cx="674640" cy="743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314440" y="3409920"/>
            <a:ext cx="1800360" cy="101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438280" y="3371760"/>
            <a:ext cx="2351160" cy="352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0"/>
          <a:stretch/>
        </p:blipFill>
        <p:spPr>
          <a:xfrm>
            <a:off x="184320" y="3056040"/>
            <a:ext cx="2232000" cy="6937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39960" y="4273560"/>
            <a:ext cx="948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172.31.1.254/2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465560" y="4451400"/>
            <a:ext cx="948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10.10.10.254/2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998640" y="529416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E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Router Clip Art"/>
          <p:cNvPicPr/>
          <p:nvPr/>
        </p:nvPicPr>
        <p:blipFill>
          <a:blip r:embed="rId11"/>
          <a:stretch/>
        </p:blipFill>
        <p:spPr>
          <a:xfrm>
            <a:off x="415800" y="6014880"/>
            <a:ext cx="1625760" cy="89244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12"/>
          <a:stretch/>
        </p:blipFill>
        <p:spPr>
          <a:xfrm>
            <a:off x="3749760" y="4336920"/>
            <a:ext cx="811080" cy="73512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4311720" y="4838760"/>
            <a:ext cx="94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photocopieu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156760" y="2692440"/>
            <a:ext cx="110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PC guichet accuei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552760" y="4870440"/>
            <a:ext cx="983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PC organis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3"/>
          <a:stretch/>
        </p:blipFill>
        <p:spPr>
          <a:xfrm>
            <a:off x="4075200" y="3218040"/>
            <a:ext cx="776160" cy="7761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2276640" y="1143000"/>
            <a:ext cx="34765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371680" y="3371760"/>
            <a:ext cx="2743200" cy="1019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718800" y="3559320"/>
            <a:ext cx="55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traceu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638520" y="2962440"/>
            <a:ext cx="399960" cy="0"/>
          </a:xfrm>
          <a:prstGeom prst="line">
            <a:avLst/>
          </a:prstGeom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rot="18739200">
            <a:off x="2073600" y="3287520"/>
            <a:ext cx="657360" cy="231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Vlan 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4"/>
          <a:stretch/>
        </p:blipFill>
        <p:spPr>
          <a:xfrm>
            <a:off x="3903840" y="2681280"/>
            <a:ext cx="579240" cy="5144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392000" y="2765520"/>
            <a:ext cx="1133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Imprimante bad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Glossy Tv clip art"/>
          <p:cNvPicPr/>
          <p:nvPr/>
        </p:nvPicPr>
        <p:blipFill>
          <a:blip r:embed="rId15"/>
          <a:stretch/>
        </p:blipFill>
        <p:spPr>
          <a:xfrm>
            <a:off x="5032440" y="3668760"/>
            <a:ext cx="1508040" cy="11286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5420520" y="4019400"/>
            <a:ext cx="747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ffiche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405080" y="3521160"/>
            <a:ext cx="19080" cy="1162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104840" y="4276800"/>
            <a:ext cx="698400" cy="12384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224720" y="4229280"/>
            <a:ext cx="52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Calibri"/>
              </a:rPr>
              <a:t>filtrag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322280" y="4473720"/>
            <a:ext cx="21600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E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4T10:32:17Z</dcterms:created>
  <dc:creator>DG</dc:creator>
  <dc:description/>
  <dc:language>en-US</dc:language>
  <cp:lastModifiedBy>DG</cp:lastModifiedBy>
  <dcterms:modified xsi:type="dcterms:W3CDTF">2012-02-24T16:05:15Z</dcterms:modified>
  <cp:revision>17</cp:revision>
  <dc:subject/>
  <dc:title>Diapositive 1</dc:title>
</cp:coreProperties>
</file>