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Franklin Gothic Demi Cond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4BDE-650B-4E4B-A914-AB402E9583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28AA-BD89-4964-8359-CDB1064645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CBF-053C-49EF-986D-2C3DA71F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0560" y="4190760"/>
            <a:ext cx="85690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A70-58CA-4907-BF0F-A8C3D168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50560" y="419076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41480" y="419076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743-909E-438E-AA6E-B6791D24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47840" y="203148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45480" y="203148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50560" y="419076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47840" y="419076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45480" y="419076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73D-0B86-4C29-B87F-62395880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F3C-24A9-42AB-97F6-0BBD3F74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1C3-000F-4F83-92EE-02271FE3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37D-B3C0-42AF-B608-06C47FBD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D3B-5477-4451-BAB6-63922CCE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484000" y="274320"/>
            <a:ext cx="62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188-2649-44B8-A7E7-6F269711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560" y="419076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E74-B0C8-4C16-B448-E75517C9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41480" y="419076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C33-13F4-48B4-8C8D-A5446A35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560" y="4190760"/>
            <a:ext cx="85690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0CC-2FA3-4055-BF93-009BEE50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Franklin Gothic Demi Cond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8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a5a5c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Université d’été GSI </a:t>
            </a:r>
            <a:r>
              <a:rPr b="0" lang="fr-FR" sz="1200" spc="-1" strike="noStrike">
                <a:solidFill>
                  <a:srgbClr val="a5a5c3"/>
                </a:solidFill>
                <a:latin typeface="Wingdings 2"/>
                <a:ea typeface="Wingdings 2"/>
              </a:rPr>
              <a:t></a:t>
            </a: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 Août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a5a5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A0FE-B6D1-4372-A3BE-56F94687E851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96960" y="1673280"/>
            <a:ext cx="7296120" cy="88920"/>
          </a:xfrm>
          <a:prstGeom prst="rect">
            <a:avLst/>
          </a:prstGeom>
          <a:solidFill>
            <a:srgbClr val="aaa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14200" y="1968480"/>
            <a:ext cx="1828800" cy="114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41240" y="14335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Franklin Gothic Demi Cond"/>
              </a:rPr>
              <a:t>G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ubHalfFrame"/>
          <p:cNvSpPr/>
          <p:nvPr/>
        </p:nvSpPr>
        <p:spPr>
          <a:xfrm>
            <a:off x="250920" y="189000"/>
            <a:ext cx="1331640" cy="1295280"/>
          </a:xfrm>
          <a:prstGeom prst="pie">
            <a:avLst/>
          </a:prstGeom>
          <a:solidFill>
            <a:srgbClr val="99003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8360" y="1714680"/>
            <a:ext cx="2057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aaaac6"/>
                </a:solidFill>
                <a:latin typeface="Haettenschweiler"/>
              </a:rPr>
              <a:t>Gestion des systèmes d’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718200" y="628920"/>
            <a:ext cx="874080" cy="844200"/>
            <a:chOff x="718200" y="628920"/>
            <a:chExt cx="874080" cy="844200"/>
          </a:xfrm>
        </p:grpSpPr>
        <p:sp>
          <p:nvSpPr>
            <p:cNvPr id="11" name="Puzzle3"/>
            <p:cNvSpPr/>
            <p:nvPr/>
          </p:nvSpPr>
          <p:spPr>
            <a:xfrm>
              <a:off x="1243080" y="635040"/>
              <a:ext cx="268200" cy="433440"/>
            </a:xfrm>
            <a:prstGeom prst="pie">
              <a:avLst/>
            </a:prstGeom>
            <a:solidFill>
              <a:srgbClr val="c000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Puzzle2"/>
            <p:cNvSpPr/>
            <p:nvPr/>
          </p:nvSpPr>
          <p:spPr>
            <a:xfrm>
              <a:off x="1165320" y="950760"/>
              <a:ext cx="426960" cy="393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Puzzle4"/>
            <p:cNvSpPr/>
            <p:nvPr/>
          </p:nvSpPr>
          <p:spPr>
            <a:xfrm>
              <a:off x="1000080" y="946080"/>
              <a:ext cx="257040" cy="504720"/>
            </a:xfrm>
            <a:prstGeom prst="pie">
              <a:avLst/>
            </a:prstGeom>
            <a:solidFill>
              <a:srgbClr val="507c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Puzzle1"/>
            <p:cNvSpPr/>
            <p:nvPr/>
          </p:nvSpPr>
          <p:spPr>
            <a:xfrm rot="1086000">
              <a:off x="753840" y="688320"/>
              <a:ext cx="431640" cy="299880"/>
            </a:xfrm>
            <a:prstGeom prst="pie">
              <a:avLst/>
            </a:prstGeom>
            <a:solidFill>
              <a:srgbClr val="cc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085760" y="1365480"/>
              <a:ext cx="104760" cy="107640"/>
            </a:xfrm>
            <a:prstGeom prst="ellipse">
              <a:avLst/>
            </a:prstGeom>
            <a:solidFill>
              <a:srgbClr val="c0004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0320" y="3398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990033"/>
                </a:solidFill>
                <a:latin typeface="Haettenschweiler"/>
              </a:rPr>
              <a:t>Le contexte JPE</a:t>
            </a:r>
            <a:endParaRPr b="0" lang="en-US" sz="60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96960" y="1673280"/>
            <a:ext cx="7296120" cy="88920"/>
          </a:xfrm>
          <a:prstGeom prst="rect">
            <a:avLst/>
          </a:prstGeom>
          <a:solidFill>
            <a:srgbClr val="aaa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14200" y="1968480"/>
            <a:ext cx="1828800" cy="114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741240" y="14335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Franklin Gothic Demi Cond"/>
              </a:rPr>
              <a:t>G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ubHalfFrame"/>
          <p:cNvSpPr/>
          <p:nvPr/>
        </p:nvSpPr>
        <p:spPr>
          <a:xfrm>
            <a:off x="250920" y="189000"/>
            <a:ext cx="1331640" cy="1295280"/>
          </a:xfrm>
          <a:prstGeom prst="pie">
            <a:avLst/>
          </a:prstGeom>
          <a:solidFill>
            <a:srgbClr val="99003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98360" y="1714680"/>
            <a:ext cx="2057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aaaac6"/>
                </a:solidFill>
                <a:latin typeface="Haettenschweiler"/>
              </a:rPr>
              <a:t>Gestion des systèmes d’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9"/>
          <p:cNvGrpSpPr/>
          <p:nvPr/>
        </p:nvGrpSpPr>
        <p:grpSpPr>
          <a:xfrm>
            <a:off x="718200" y="628560"/>
            <a:ext cx="874080" cy="844560"/>
            <a:chOff x="718200" y="628560"/>
            <a:chExt cx="874080" cy="844560"/>
          </a:xfrm>
        </p:grpSpPr>
        <p:sp>
          <p:nvSpPr>
            <p:cNvPr id="66" name="Puzzle3"/>
            <p:cNvSpPr/>
            <p:nvPr/>
          </p:nvSpPr>
          <p:spPr>
            <a:xfrm>
              <a:off x="1243080" y="635040"/>
              <a:ext cx="267480" cy="433080"/>
            </a:xfrm>
            <a:prstGeom prst="pie">
              <a:avLst/>
            </a:prstGeom>
            <a:solidFill>
              <a:srgbClr val="c000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Puzzle2"/>
            <p:cNvSpPr/>
            <p:nvPr/>
          </p:nvSpPr>
          <p:spPr>
            <a:xfrm>
              <a:off x="1164960" y="950400"/>
              <a:ext cx="427320" cy="3945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Puzzle4"/>
            <p:cNvSpPr/>
            <p:nvPr/>
          </p:nvSpPr>
          <p:spPr>
            <a:xfrm>
              <a:off x="999720" y="945720"/>
              <a:ext cx="257400" cy="504360"/>
            </a:xfrm>
            <a:prstGeom prst="pie">
              <a:avLst/>
            </a:prstGeom>
            <a:solidFill>
              <a:srgbClr val="507c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Puzzle1"/>
            <p:cNvSpPr/>
            <p:nvPr/>
          </p:nvSpPr>
          <p:spPr>
            <a:xfrm rot="1086000">
              <a:off x="753840" y="687960"/>
              <a:ext cx="432360" cy="300600"/>
            </a:xfrm>
            <a:prstGeom prst="pie">
              <a:avLst/>
            </a:prstGeom>
            <a:solidFill>
              <a:srgbClr val="cc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4"/>
            <p:cNvSpPr/>
            <p:nvPr/>
          </p:nvSpPr>
          <p:spPr>
            <a:xfrm>
              <a:off x="1086120" y="1366200"/>
              <a:ext cx="104760" cy="106920"/>
            </a:xfrm>
            <a:prstGeom prst="ellipse">
              <a:avLst/>
            </a:prstGeom>
            <a:solidFill>
              <a:srgbClr val="c0004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9BF5-48AD-4E18-A53A-BFBD2D87899C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33"/>
                </a:solidFill>
                <a:latin typeface="Franklin Gothic Demi Cond"/>
              </a:rPr>
              <a:t>L’application de gestion des inscriptions</a:t>
            </a:r>
            <a:endParaRPr b="0" lang="en-US" sz="36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4200" y="1999800"/>
            <a:ext cx="85694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Un site intranet exist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28" name="Image 5" descr="site.gif"/>
          <p:cNvPicPr/>
          <p:nvPr/>
        </p:nvPicPr>
        <p:blipFill>
          <a:blip r:embed="rId1"/>
          <a:stretch/>
        </p:blipFill>
        <p:spPr>
          <a:xfrm>
            <a:off x="1428840" y="3357720"/>
            <a:ext cx="60674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8851-92BF-4462-A549-50D75BFAA2D4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33"/>
                </a:solidFill>
                <a:latin typeface="Franklin Gothic Demi Cond"/>
              </a:rPr>
              <a:t>L’application de gestion des inscriptions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 Narrow"/>
              </a:rPr>
              <a:t>Réponses aux demandes d’informations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33" name="Image 5" descr="info.gif"/>
          <p:cNvPicPr/>
          <p:nvPr/>
        </p:nvPicPr>
        <p:blipFill>
          <a:blip r:embed="rId1"/>
          <a:stretch/>
        </p:blipFill>
        <p:spPr>
          <a:xfrm>
            <a:off x="2071800" y="2786040"/>
            <a:ext cx="38574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79B8-8392-488A-AF64-BE600723CAFF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33"/>
                </a:solidFill>
                <a:latin typeface="Franklin Gothic Demi Cond"/>
              </a:rPr>
              <a:t>L’application de gestion des inscriptions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 Narrow"/>
              </a:rPr>
              <a:t>Inscription de visiteurs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38" name="Image 5" descr="inscription.gif"/>
          <p:cNvPicPr/>
          <p:nvPr/>
        </p:nvPicPr>
        <p:blipFill>
          <a:blip r:embed="rId1"/>
          <a:stretch/>
        </p:blipFill>
        <p:spPr>
          <a:xfrm>
            <a:off x="0" y="2857680"/>
            <a:ext cx="86504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4ECF-C8C8-4B11-BCE1-1723AD8A9AE4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33"/>
                </a:solidFill>
                <a:latin typeface="Franklin Gothic Demi Cond"/>
              </a:rPr>
              <a:t>L’application de gestion des inscriptions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 Narrow"/>
              </a:rPr>
              <a:t>Informer les entreprises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43" name="Image 5" descr="entreprises.gif"/>
          <p:cNvPicPr/>
          <p:nvPr/>
        </p:nvPicPr>
        <p:blipFill>
          <a:blip r:embed="rId1"/>
          <a:stretch/>
        </p:blipFill>
        <p:spPr>
          <a:xfrm>
            <a:off x="1357200" y="2643120"/>
            <a:ext cx="60724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3B1E-E5FC-4585-9BA9-01851F8BB037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a CCI de Dordogne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75" name="Image 12" descr="france.gif"/>
          <p:cNvPicPr/>
          <p:nvPr/>
        </p:nvPicPr>
        <p:blipFill>
          <a:blip r:embed="rId1"/>
          <a:stretch/>
        </p:blipFill>
        <p:spPr>
          <a:xfrm>
            <a:off x="2357280" y="2000160"/>
            <a:ext cx="4810320" cy="4181400"/>
          </a:xfrm>
          <a:prstGeom prst="rect">
            <a:avLst/>
          </a:prstGeom>
          <a:ln w="0">
            <a:noFill/>
          </a:ln>
        </p:spPr>
      </p:pic>
      <p:pic>
        <p:nvPicPr>
          <p:cNvPr id="76" name="Image 13" descr="dordogne.gif"/>
          <p:cNvPicPr/>
          <p:nvPr/>
        </p:nvPicPr>
        <p:blipFill>
          <a:blip r:embed="rId2"/>
          <a:stretch/>
        </p:blipFill>
        <p:spPr>
          <a:xfrm>
            <a:off x="2643120" y="2286000"/>
            <a:ext cx="3762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001B-DE67-41E0-B08F-2C1337544071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a CCI de Dordogne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2031840"/>
            <a:ext cx="8569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 Narrow"/>
              </a:rPr>
              <a:t>Les missions de la Chambre de Commerce et d’Industrie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ZoneTexte 8"/>
          <p:cNvSpPr/>
          <p:nvPr/>
        </p:nvSpPr>
        <p:spPr>
          <a:xfrm>
            <a:off x="714240" y="285768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a représentation des 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9"/>
          <p:cNvSpPr/>
          <p:nvPr/>
        </p:nvSpPr>
        <p:spPr>
          <a:xfrm>
            <a:off x="725040" y="342900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’information des 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0"/>
          <p:cNvSpPr/>
          <p:nvPr/>
        </p:nvSpPr>
        <p:spPr>
          <a:xfrm>
            <a:off x="730440" y="392904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e conseil aux 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794160" y="44290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2"/>
          <p:cNvSpPr/>
          <p:nvPr/>
        </p:nvSpPr>
        <p:spPr>
          <a:xfrm>
            <a:off x="738360" y="5072040"/>
            <a:ext cx="62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’aménagement et la gestion d’infrastructures utiles 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développement écono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56C6-C7AC-4AB7-B5FA-A351887352D4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a CCI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Arial Narrow"/>
              </a:rPr>
              <a:t>La CCI de Dordogne représente 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ZoneTexte 7"/>
          <p:cNvSpPr/>
          <p:nvPr/>
        </p:nvSpPr>
        <p:spPr>
          <a:xfrm>
            <a:off x="450000" y="300024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6220 entreprises com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8"/>
          <p:cNvSpPr/>
          <p:nvPr/>
        </p:nvSpPr>
        <p:spPr>
          <a:xfrm>
            <a:off x="518400" y="371484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2874 entreprises industri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9"/>
          <p:cNvSpPr/>
          <p:nvPr/>
        </p:nvSpPr>
        <p:spPr>
          <a:xfrm>
            <a:off x="590760" y="45007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5044 entreprises d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E896-E018-4AB3-9FCE-9344C23081A9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a CCI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499840"/>
            <a:ext cx="7072200" cy="7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  <a:ea typeface="Arial"/>
              </a:rPr>
              <a:t>Les activités sont structurées autour de 6 pôles géographiques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6" name="ZoneTexte 7"/>
          <p:cNvSpPr/>
          <p:nvPr/>
        </p:nvSpPr>
        <p:spPr>
          <a:xfrm>
            <a:off x="666000" y="3357720"/>
            <a:ext cx="51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budget de la CCI est de 20 millions d’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8"/>
          <p:cNvSpPr/>
          <p:nvPr/>
        </p:nvSpPr>
        <p:spPr>
          <a:xfrm>
            <a:off x="734040" y="421488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CCI emploie 240 collabor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267F-756A-4591-B91F-23486E2CE54A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es JPE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2031840"/>
            <a:ext cx="856908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Les Journées du Patrimoine Economiqu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2" name="ZoneTexte 7"/>
          <p:cNvSpPr/>
          <p:nvPr/>
        </p:nvSpPr>
        <p:spPr>
          <a:xfrm>
            <a:off x="660600" y="28576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s les ans, courant octobre, la CCI organise 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« Journées du Patrimoine Economiqu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8"/>
          <p:cNvSpPr/>
          <p:nvPr/>
        </p:nvSpPr>
        <p:spPr>
          <a:xfrm>
            <a:off x="822960" y="407196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particuliers peuvent profiter de visites guidées des entre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Région et ce, pendant 3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25BF-2C9A-458F-811B-5BFE72C8456F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33"/>
                </a:solidFill>
                <a:latin typeface="Franklin Gothic Demi Cond"/>
              </a:rPr>
              <a:t>Organisation des JPE par la CCI</a:t>
            </a:r>
            <a:endParaRPr b="0" lang="en-US" sz="36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031840"/>
            <a:ext cx="856908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DEUX PROCESSU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8" name="ZoneTexte 7"/>
          <p:cNvSpPr/>
          <p:nvPr/>
        </p:nvSpPr>
        <p:spPr>
          <a:xfrm>
            <a:off x="806760" y="335772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) La préparation des vi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8"/>
          <p:cNvSpPr/>
          <p:nvPr/>
        </p:nvSpPr>
        <p:spPr>
          <a:xfrm>
            <a:off x="884160" y="4500720"/>
            <a:ext cx="61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) La gestion des inscriptions aux vi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4BDE-031D-4FB6-A235-CE73472C65AC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33"/>
                </a:solidFill>
                <a:latin typeface="Franklin Gothic Demi Cond"/>
              </a:rPr>
              <a:t>Processus de préparation des visites</a:t>
            </a:r>
            <a:endParaRPr b="0" lang="en-US" sz="36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560" y="2031840"/>
            <a:ext cx="8569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Il faut </a:t>
            </a:r>
            <a:r>
              <a:rPr b="0" lang="fr-FR" sz="3200" spc="-1" strike="noStrike">
                <a:solidFill>
                  <a:srgbClr val="333333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ZoneTexte 7"/>
          <p:cNvSpPr/>
          <p:nvPr/>
        </p:nvSpPr>
        <p:spPr>
          <a:xfrm>
            <a:off x="1237680" y="3071880"/>
            <a:ext cx="44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acter les entreprises pour ac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8"/>
          <p:cNvSpPr/>
          <p:nvPr/>
        </p:nvSpPr>
        <p:spPr>
          <a:xfrm>
            <a:off x="1214280" y="3929040"/>
            <a:ext cx="38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finir le planning des vi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9"/>
          <p:cNvSpPr/>
          <p:nvPr/>
        </p:nvSpPr>
        <p:spPr>
          <a:xfrm>
            <a:off x="1214280" y="485784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noncer le planning au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A05D-5DC4-4295-BFC8-44D59558C7FC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33"/>
                </a:solidFill>
                <a:latin typeface="Franklin Gothic Demi Cond"/>
              </a:rPr>
              <a:t>Processus de gestion des inscriptions</a:t>
            </a:r>
            <a:endParaRPr b="0" lang="en-US" sz="36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031840"/>
            <a:ext cx="8569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Il faut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ZoneTexte 7"/>
          <p:cNvSpPr/>
          <p:nvPr/>
        </p:nvSpPr>
        <p:spPr>
          <a:xfrm>
            <a:off x="1143000" y="3286080"/>
            <a:ext cx="68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registrer les inscriptions,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ar téléphone uniqu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8"/>
          <p:cNvSpPr/>
          <p:nvPr/>
        </p:nvSpPr>
        <p:spPr>
          <a:xfrm>
            <a:off x="1143000" y="41432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ignaler les inscriptions aux 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9"/>
          <p:cNvSpPr/>
          <p:nvPr/>
        </p:nvSpPr>
        <p:spPr>
          <a:xfrm>
            <a:off x="1214280" y="5143680"/>
            <a:ext cx="67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évenir les inscrits d’une éventuelle annulation de vi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17:30:20Z</dcterms:created>
  <dc:creator>Edith Simon</dc:creator>
  <dc:description/>
  <dc:language>en-US</dc:language>
  <cp:lastModifiedBy>Patrice Grand</cp:lastModifiedBy>
  <dcterms:modified xsi:type="dcterms:W3CDTF">2008-11-03T12:04:59Z</dcterms:modified>
  <cp:revision>44</cp:revision>
  <dc:subject/>
  <dc:title>Université d’été</dc:title>
</cp:coreProperties>
</file>