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3A95-6EA0-4801-9145-38D1769FA7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39D6-D212-4183-804B-A0BBC283ECCA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18B-BE8D-40DC-81E8-2427AB9C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3B3-A76A-46A0-81DB-7FB149B7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082-FC50-40A1-B0CB-BCC98D8B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637-DF0A-4184-8BEC-EB615F9C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1EB5-32C1-4832-BCC2-78B858C9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0DEA-FE4D-45AC-884E-16536B1C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AEA5-2A63-4871-8180-A4382395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075C-39AE-4B93-945E-93D4FBA5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88D8-F6FB-4E47-A2C2-63A04350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0CE8-1172-4D67-B9D3-973481BF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A536-853F-44CA-8885-15082BAE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877-FFC1-453E-8CF1-B57F31A7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0BD9-1A9C-4981-BA69-09F37D32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E3B8-411E-473C-97FF-A7FB4A86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2038-2CBC-4A95-9DB0-A330320A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5C76-76A9-4047-A23D-FB28FA19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894E-17B8-4C18-A200-ECA52989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AA4-E2A9-4352-A1C7-7BD15B98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C8F-5072-41CD-939C-E66DAE7B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CA6E-69DB-4DBA-AB47-EE1BF175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66E-21A2-4CDE-B5E3-B9FFF6F3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0132-E075-44A7-94C1-690ABA64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E2D-52B1-4C61-92AA-AC05F459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7FC7-07EF-435A-825D-922AECA2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a28a84"/>
                </a:gs>
                <a:gs pos="50000">
                  <a:srgbClr val="765e58"/>
                </a:gs>
                <a:gs pos="100000">
                  <a:srgbClr val="a28a8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.Glénisson - Ac Orléans Tou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A116-674C-4FD1-99F1-D7D645ACC97E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a28a84"/>
                </a:gs>
                <a:gs pos="50000">
                  <a:srgbClr val="765e58"/>
                </a:gs>
                <a:gs pos="100000">
                  <a:srgbClr val="a28a8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S.Glénisson - Ac Orléans Tou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3056-5EDE-44F6-8671-070A4350A5E6}" type="slidenum"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r.wikipedia.org/wiki/Fichier:LogoForclum.gif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hyperlink" Target="file://upload.wikimedia.org/wikipedia/fr/d/d7/Logo_IKEA.svg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dddddd"/>
                </a:solidFill>
                <a:latin typeface="Arial"/>
              </a:rPr>
              <a:t>Enseignement exploratoire</a:t>
            </a:r>
            <a:br>
              <a:rPr sz="4400"/>
            </a:br>
            <a:r>
              <a:rPr b="0" lang="fr-FR" sz="4400" spc="-1" strike="noStrike">
                <a:solidFill>
                  <a:srgbClr val="dddddd"/>
                </a:solidFill>
                <a:latin typeface="Arial"/>
              </a:rPr>
              <a:t>P.F.E.G.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gency FB"/>
              </a:rPr>
              <a:t>Relation avec la vie de la C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Espace réservé du pied de pag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S.Glénisson - Ac Orléans Tou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Scénario pédagogiqu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1484280"/>
          <a:ext cx="6553440" cy="5164200"/>
        </p:xfrm>
        <a:graphic>
          <a:graphicData uri="http://schemas.openxmlformats.org/drawingml/2006/table">
            <a:tbl>
              <a:tblPr/>
              <a:tblGrid>
                <a:gridCol w="2295720"/>
                <a:gridCol w="4257720"/>
              </a:tblGrid>
              <a:tr h="33192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AP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ES ELEV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</a:tr>
              <a:tr h="3445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-requis – introduc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appel de la définition du développement durable (transversalité cours d’histoire-géographie).  Relations entre les différents acteurs économique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122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nalyse du projet du TRAM de Tours et réalisation d’un diaporama commu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- 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Se répartir le travail à partir du tableau annexe 1 concernant les différentes questions abordé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echercher sur Internet des information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Transmettre les informations clés en vue de réaliser un diaporama aux élèves en charge du montage via l’ENT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14018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résentation des synthèses et prise de not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hase conceptualisa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ésentation des synthèses à l’oral à partir du diapora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sentation du diaporama par les élèves et prise de notes à partir d’un tableau (annexe 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questionnement complémentaire à partir des points soulevés dans le tablea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emièr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enjeux écologiques, économiques et sociaux du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6826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echerche d’informations concernant les incitations gouvernementales pour d’autres projets dans le cadre du développement durable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et saisie des réponses à partir d’un tableau (annexe 3) –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endre un exemple de projet concernant le développement durable pour un ménag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ciser les avantages fiscaux ou financiers que cela peut entraîne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change concernant les exemples obtenu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second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incitations concernant les ménages et les entreprises pour le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2811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valuation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valuation sommative complémentair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</a:tbl>
          </a:graphicData>
        </a:graphic>
      </p:graphicFrame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390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58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Répartition de la recherche d’information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332000" y="1052640"/>
          <a:ext cx="6480000" cy="5252760"/>
        </p:xfrm>
        <a:graphic>
          <a:graphicData uri="http://schemas.openxmlformats.org/drawingml/2006/table">
            <a:tbl>
              <a:tblPr/>
              <a:tblGrid>
                <a:gridCol w="3240000"/>
                <a:gridCol w="3240000"/>
              </a:tblGrid>
              <a:tr h="20772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THEM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ELEV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6588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Historique du proj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configuration de la ville de Tour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Problématiques éventuelles à l’origine du proj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61776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Financement du proj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les partenair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le coût et sa réparti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4842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Objectifs fixé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Du point de vue écologique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4824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Objectifs fixé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Du point de vue économique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4842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Objectifs fixé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Du point de vue soci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4842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Objectifs fixé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Du point de vue sociét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6588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Mise en place de la première lig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choix du tracé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analyse des quartiers traversés et des stations</a:t>
                      </a: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51588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Le chantier de la première lig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- </a:t>
                      </a: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les contraintes générales concernant la première lig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6588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Le chantier et la création du parc relai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- </a:t>
                      </a: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les contraintes particulières à la création du parc relais et de la fin de ligne au lycée Jean Monn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</a:tbl>
          </a:graphicData>
        </a:graphic>
      </p:graphicFrame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7667640" y="58680"/>
            <a:ext cx="1390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Scénario pédagogiqu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484280"/>
          <a:ext cx="6553440" cy="5164200"/>
        </p:xfrm>
        <a:graphic>
          <a:graphicData uri="http://schemas.openxmlformats.org/drawingml/2006/table">
            <a:tbl>
              <a:tblPr/>
              <a:tblGrid>
                <a:gridCol w="2295720"/>
                <a:gridCol w="4257720"/>
              </a:tblGrid>
              <a:tr h="33192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AP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ES ELEV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</a:tr>
              <a:tr h="3445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-requis – introduc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appel de la définition du développement durable (transversalité cours d’histoire-géographie).  Relations entre les différents acteurs économique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122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nalyse du projet du TRAM de Tours et réalisation d’un diaporama commu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- 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Se répartir le travail à partir du tableau annexe 1 concernant les différentes questions abordé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echercher sur Internet des information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Transmettre les informations clés en vue de réaliser un diaporama aux élèves en charge du montage via l’ENT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14018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résentation des synthèses et prise de not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hase conceptualisa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ésentation des synthèses à l’oral à partir du diapora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sentation du diaporama par les élèves et prise de notes à partir d’un tableau (annexe 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questionnement complémentaire à partir des points soulevés dans le tablea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emièr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enjeux écologiques, économiques et sociaux du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6826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echerche d’informations concernant les incitations gouvernementales pour d’autres projets dans le cadre du développement durable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et saisie des réponses à partir d’un tableau (annexe 3) –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endre un exemple de projet concernant le développement durable pour un ménag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ciser les avantages fiscaux ou financiers que cela peut entraîne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change concernant les exemples obtenu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second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incitations concernant les ménages et les entreprises pour le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2811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valuation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valuation sommative complémentair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</a:tbl>
          </a:graphicData>
        </a:graphic>
      </p:graphicFrame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390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Tableau de collecte des information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7236000" y="1039680"/>
            <a:ext cx="1390320" cy="9813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457200" y="206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492560" y="1301760"/>
            <a:ext cx="499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Annexe 1 : </a:t>
            </a:r>
            <a:r>
              <a:rPr b="1" lang="fr-FR" sz="1200" spc="-1" strike="noStrike" u="sng">
                <a:solidFill>
                  <a:srgbClr val="ffffff"/>
                </a:solidFill>
                <a:uFillTx/>
                <a:latin typeface="Arial"/>
              </a:rPr>
              <a:t>Enjeux et contraintes de l’implantation du tram à Tou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2065320"/>
          <a:ext cx="8229600" cy="4388040"/>
        </p:xfrm>
        <a:graphic>
          <a:graphicData uri="http://schemas.openxmlformats.org/drawingml/2006/table">
            <a:tbl>
              <a:tblPr/>
              <a:tblGrid>
                <a:gridCol w="3035160"/>
                <a:gridCol w="5194440"/>
              </a:tblGrid>
              <a:tr h="3920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les sont les problématiques écologiques, économiques et sociales spécifiques à la ville de Tours 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3906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s acteurs interviennent dans la réalisation du projet 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5875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 est le coût prévisionnel du projet et comment se répartit le financement entre les différents partenaires 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3920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s sont les enjeux du tram d’un point de vue écologique 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3906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s sont les enjeux du tram d’un point de vue économique 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2775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s sont les enjeux du tram d’un point de vue social 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3924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s sont les enjeux du tram d’un point de vu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sociétal 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3902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Citez plusieurs problématiques de la ville de Tours qui ont justifié le choix du tracé de la première lig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5875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Citez des contraintes géographiques, économiques, sociales et sociétales qui ont dû être prises en compte pour l’aménagement de la première ligne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5875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En ce qui concerne l’abord du lycée Jean Monnet, précisez des exemples d’aménagements qui ont été mis en place pour faire face à certaines de ces contraintes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</a:tbl>
          </a:graphicData>
        </a:graphic>
      </p:graphicFrame>
      <p:sp>
        <p:nvSpPr>
          <p:cNvPr id="178" name="Rectangle 13"/>
          <p:cNvSpPr/>
          <p:nvPr/>
        </p:nvSpPr>
        <p:spPr>
          <a:xfrm>
            <a:off x="457200" y="206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Scénario pédagogiqu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87280" y="1484280"/>
          <a:ext cx="6553440" cy="5164200"/>
        </p:xfrm>
        <a:graphic>
          <a:graphicData uri="http://schemas.openxmlformats.org/drawingml/2006/table">
            <a:tbl>
              <a:tblPr/>
              <a:tblGrid>
                <a:gridCol w="2295720"/>
                <a:gridCol w="4257720"/>
              </a:tblGrid>
              <a:tr h="33192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AP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ES ELEV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</a:tr>
              <a:tr h="3445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-requis – introduc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appel de la définition du développement durable (transversalité cours d’histoire-géographie).  Relations entre les différents acteurs économique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122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nalyse du projet du TRAM de Tours et réalisation d’un diaporama commu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- 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Se répartir le travail à partir du tableau annexe 1 concernant les différentes questions abordé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echercher sur Internet des information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Transmettre les informations clés en vue de réaliser un diaporama aux élèves en charge du montage via l’ENT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14018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résentation des synthèses et prise de not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hase conceptualisa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ésentation des synthèses à l’oral à partir du diapora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sentation du diaporama par les élèves et prise de notes à partir d’un tableau (annexe 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questionnement complémentaire à partir des points soulevés dans le tablea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emièr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enjeux écologiques, économiques et sociaux du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6826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echerche d’informations concernant les incitations gouvernementales pour d’autres projets dans le cadre du développement durable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et saisie des réponses à partir d’un tableau (annexe 3) –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endre un exemple de projet concernant le développement durable pour un ménag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ciser les avantages fiscaux ou financiers que cela peut entraîne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change concernant les exemples obtenu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second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incitations concernant les ménages et les entreprises pour le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2811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valuation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valuation sommative complémentair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</a:tbl>
          </a:graphicData>
        </a:graphic>
      </p:graphicFrame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390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7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Analyse du tracé de la première lign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476440" y="1268280"/>
            <a:ext cx="4322880" cy="5040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7451640" y="293760"/>
            <a:ext cx="1390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Choix pédagogiques opéré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Utilisation des TI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echerche 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nception de synthèse sur support numériq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Travail en résea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Complémentarité travail de groupe et travail individu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echerche d’informations et montage du diapora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Productions o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résentation des informations à partir du diapora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Echange et ouverture lors de la conceptualis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Productions écr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rise de no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édaction de la synthè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7596360" y="115920"/>
            <a:ext cx="13953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Contraintes pédagogiques et risque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Maîtrise du « processus » didact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Quelles performances attendues ? Quelles évaluations ? Les « données entrantes » permettront-elles d’aboutir aux « données sortantes » 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Nécessité de la transposition à d’autres environn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Démarche qui doit permettre à l’élève de transposer les capacités développées à d’autres environnements. Importance de la phase conceptualis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Mise en application de capacités comple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ecours à des aides méthodologiques pour certaines capacités (A.P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Gestion du temps et de la prog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Graduation de la complexité des activités en cours d’année scola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Gestion de classe et objectivité de la démar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La gestion de classe doit imposer la règle de l’objectivit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Rôle déterminant de l’évaluat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55640" y="1197000"/>
          <a:ext cx="7488360" cy="5129280"/>
        </p:xfrm>
        <a:graphic>
          <a:graphicData uri="http://schemas.openxmlformats.org/drawingml/2006/table">
            <a:tbl>
              <a:tblPr/>
              <a:tblGrid>
                <a:gridCol w="6048360"/>
                <a:gridCol w="360360"/>
                <a:gridCol w="358920"/>
                <a:gridCol w="360360"/>
                <a:gridCol w="360360"/>
              </a:tblGrid>
              <a:tr h="1400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TI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I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T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1411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Capacités fondamental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841680">
                <a:tc>
                  <a:txBody>
                    <a:bodyPr lIns="41400" rIns="41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Analyser les données dans un articl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Comprendre le sens des questions 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Répondre correctement à une question du point de vue du style et de la syntaxe. Corriger les fautes d’orthographe et d’accord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Utiliser le vocabulaire économique et de ges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841320">
                <a:tc>
                  <a:txBody>
                    <a:bodyPr lIns="41400" rIns="41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Rendre compte d’un travail donné devant un publi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Adapter sa prise de parole (attitude et niveau de langue)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Faire preuve d’écoute activ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Participer activement en respectant les interventions des autres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716040">
                <a:tc>
                  <a:txBody>
                    <a:bodyPr lIns="41400" rIns="41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Utiliser efficacement un moteur de recherche pour obtenir les informations attend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Synthétiser des données (textuelles, numériques et visuelles) en vue de construire un diaporama adapté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Utiliser les fonctionnalités du réseau pour un travail de groupe effica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140040">
                <a:tc>
                  <a:txBody>
                    <a:bodyPr lIns="41400" rIns="41400" tIns="0" bIns="0" anchor="t">
                      <a:noAutofit/>
                    </a:bodyPr>
                    <a:p>
                      <a:pPr marL="4572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Capacités liées au thèm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907920">
                <a:tc>
                  <a:txBody>
                    <a:bodyPr lIns="41400" rIns="41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Percevoir les enjeux écologiques, économiques, sociaux et sociétaux d’un projet lié au développement durabl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Déduire les contraintes que cela entraîne pour les différents acteurs économiq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Evaluer les apports du développement durable à long term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A partir d’un exemple précis, indiquer les incitations qui peuvent être mises en place afin d’orienter les comportement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140040">
                <a:tc>
                  <a:txBody>
                    <a:bodyPr lIns="41400" rIns="41400" tIns="0" bIns="0" anchor="t">
                      <a:noAutofit/>
                    </a:bodyPr>
                    <a:p>
                      <a:pPr marL="4572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Capacités comportemental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8413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Faire preuve de responsabilité et d’efficacité lors de la recherche d’informations et la production collective de supports numériq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Etre autonome dans son travail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Savoir travailler en groupe de manière effica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Manifester curiosité, créativité, motivation, à travers les activités proposé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419760">
                <a:tc>
                  <a:txBody>
                    <a:bodyPr lIns="41400" rIns="41400" tIns="0" bIns="0" anchor="t">
                      <a:noAutofit/>
                    </a:bodyPr>
                    <a:p>
                      <a:pPr marL="4572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Note sur 2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 gridSpan="4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Apports didactiques et éducatif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ppropriation par l’élève de son environn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vier à un apprentissage actif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uverture sur des problématiques économiques et de gestion donnant lieu à déb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édération d’analyses différentes dans le cadre d’un environnement comm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ntribution de l’élève à l’alimentation du processus didact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00"/>
                </a:solidFill>
                <a:latin typeface="Arial"/>
              </a:rPr>
              <a:t>SOMMAIRE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contexte éducat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prise en compte des environnements de l’élève dans la progression PF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n exemple d’application : le projet du tram de Tours (Thème 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ntraintes pédagogiques et ris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pports de la démar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S.Glénisson - Ac Orléans Tou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ne pédagogie qui peut contribuer à mieux appréhender les nouveaux profils d’élè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ne pédagogie exigeante (?) mais surtout valorisante pour l’enseign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Sylvie Glénisson - Ac Orléans Tou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dddddd"/>
                </a:solidFill>
                <a:latin typeface="Arial"/>
              </a:rPr>
              <a:t>Lycée Jean Monnet</a:t>
            </a:r>
            <a:br>
              <a:rPr sz="4000"/>
            </a:br>
            <a:r>
              <a:rPr b="0" lang="fr-FR" sz="4000" spc="-1" strike="noStrike">
                <a:solidFill>
                  <a:srgbClr val="dddddd"/>
                </a:solidFill>
                <a:latin typeface="Arial"/>
              </a:rPr>
              <a:t>Joué-Lès-Tours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444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lèg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vironnement économique et soc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Beaulie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s urbaines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é Lès T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Vallée Violet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Arche du Lu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s d’Enseignement Prioritai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é Lès T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07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La Rabiè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 René Cassin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AN MI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s péri urbai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Albert Camus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BAZ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 Val de l’Indre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3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s </a:t>
                      </a:r>
                      <a:r>
                        <a:rPr b="1" i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’Azay le Rideau et de Langea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s rur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Conditions d’enseignemen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Effecti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 groupes classes (élèves de 6 second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roupe de 26 élèves non dédoublé (voire 31 l’an dernier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ertains élèves du groupe peuvent avoir choisi en parallèle l’enseignement exploratoire 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Environnement matér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Équipement vidéo projecteur – accessibilité postes informatiques ponctuel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Hor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h30 par semaine / année scolaire complè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PEDAGOGIE ET </a:t>
            </a:r>
            <a:br>
              <a:rPr sz="3200"/>
            </a:b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PATRIMOINE DE PROXIMITE DE L’ELEVE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Environnement national et international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Faits d’actualité économi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Environnement l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texte et problématiques de la cit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Environnement lycé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jet d’établissement, évènements lycé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Environnement familial et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ématiques spécifiques et varié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Applications PFEG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9640" y="1413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Quels acteurs créent la richess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e 8"/>
          <p:cNvGrpSpPr/>
          <p:nvPr/>
        </p:nvGrpSpPr>
        <p:grpSpPr>
          <a:xfrm>
            <a:off x="684360" y="2066760"/>
            <a:ext cx="3743280" cy="1467000"/>
            <a:chOff x="684360" y="2066760"/>
            <a:chExt cx="3743280" cy="1467000"/>
          </a:xfrm>
        </p:grpSpPr>
        <p:sp>
          <p:nvSpPr>
            <p:cNvPr id="120" name="Text Box 32"/>
            <p:cNvSpPr/>
            <p:nvPr/>
          </p:nvSpPr>
          <p:spPr>
            <a:xfrm>
              <a:off x="2412000" y="2066760"/>
              <a:ext cx="2015640" cy="146700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Sondage besoins d’un élève de secon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Décision de fermeture de 3 collèges en Indre et Loi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1" name="Picture 2" descr="http://clg-arche-du-lude-joue-les-tours.tice.ac-orleans-tours.fr/php5/sobre_files/shapeimage_3.jpg"/>
            <p:cNvPicPr/>
            <p:nvPr/>
          </p:nvPicPr>
          <p:blipFill>
            <a:blip r:embed="rId1"/>
            <a:stretch/>
          </p:blipFill>
          <p:spPr>
            <a:xfrm>
              <a:off x="684360" y="2066760"/>
              <a:ext cx="1535760" cy="123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Text Box 14"/>
          <p:cNvSpPr/>
          <p:nvPr/>
        </p:nvSpPr>
        <p:spPr>
          <a:xfrm>
            <a:off x="4643280" y="1413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Qu’est-ce qu’une entrepris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e 3"/>
          <p:cNvGrpSpPr/>
          <p:nvPr/>
        </p:nvGrpSpPr>
        <p:grpSpPr>
          <a:xfrm>
            <a:off x="4734000" y="2066760"/>
            <a:ext cx="3600360" cy="1592280"/>
            <a:chOff x="4734000" y="2066760"/>
            <a:chExt cx="3600360" cy="1592280"/>
          </a:xfrm>
        </p:grpSpPr>
        <p:pic>
          <p:nvPicPr>
            <p:cNvPr id="124" name="Picture 20" descr="Description de l'image  LogoForclum.gif.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46720" y="3290760"/>
              <a:ext cx="208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22"/>
            <p:cNvSpPr/>
            <p:nvPr/>
          </p:nvSpPr>
          <p:spPr>
            <a:xfrm>
              <a:off x="6389640" y="2066760"/>
              <a:ext cx="1871640" cy="9464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765e58"/>
                  </a:solidFill>
                  <a:latin typeface="Arial"/>
                </a:rPr>
                <a:t>Analyse d’une entreprise locale effectuant des travaux au lycé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6" name="Picture 24" descr="L'entreprise jocondienne n'a pas encore modifié son nom sur ses façades."/>
            <p:cNvPicPr/>
            <p:nvPr/>
          </p:nvPicPr>
          <p:blipFill>
            <a:blip r:embed="rId4"/>
            <a:stretch/>
          </p:blipFill>
          <p:spPr>
            <a:xfrm>
              <a:off x="4734000" y="2327040"/>
              <a:ext cx="1439640" cy="121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 Box 13"/>
          <p:cNvSpPr/>
          <p:nvPr/>
        </p:nvSpPr>
        <p:spPr>
          <a:xfrm>
            <a:off x="468360" y="330372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Comment l’ouverture internationale influence-t-elle le comportement de l’entrepris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e 1"/>
          <p:cNvGrpSpPr/>
          <p:nvPr/>
        </p:nvGrpSpPr>
        <p:grpSpPr>
          <a:xfrm>
            <a:off x="630360" y="4484520"/>
            <a:ext cx="3435120" cy="2055960"/>
            <a:chOff x="630360" y="4484520"/>
            <a:chExt cx="3435120" cy="2055960"/>
          </a:xfrm>
        </p:grpSpPr>
        <p:pic>
          <p:nvPicPr>
            <p:cNvPr id="129" name="Picture 16" descr="Fichier:Logo IKEA.svg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888840" y="4643280"/>
              <a:ext cx="16668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31"/>
            <p:cNvSpPr/>
            <p:nvPr/>
          </p:nvSpPr>
          <p:spPr>
            <a:xfrm>
              <a:off x="630360" y="5368680"/>
              <a:ext cx="1944720" cy="110196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Impact implantation IKEA sur les concurrents locau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Simulation projet export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1" name="Picture 23" descr=""/>
            <p:cNvPicPr/>
            <p:nvPr/>
          </p:nvPicPr>
          <p:blipFill>
            <a:blip r:embed="rId7"/>
            <a:stretch/>
          </p:blipFill>
          <p:spPr>
            <a:xfrm>
              <a:off x="2643120" y="4484520"/>
              <a:ext cx="96516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2" descr=""/>
            <p:cNvPicPr/>
            <p:nvPr/>
          </p:nvPicPr>
          <p:blipFill>
            <a:blip r:embed="rId8"/>
            <a:stretch/>
          </p:blipFill>
          <p:spPr>
            <a:xfrm>
              <a:off x="2643120" y="5533920"/>
              <a:ext cx="1422360" cy="100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Text Box 12"/>
          <p:cNvSpPr/>
          <p:nvPr/>
        </p:nvSpPr>
        <p:spPr>
          <a:xfrm>
            <a:off x="4424400" y="3438360"/>
            <a:ext cx="44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Comment l’entreprise crée-t-elle de la valeur ajouté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e 32"/>
          <p:cNvGrpSpPr/>
          <p:nvPr/>
        </p:nvGrpSpPr>
        <p:grpSpPr>
          <a:xfrm>
            <a:off x="4643280" y="4184640"/>
            <a:ext cx="3826080" cy="2351160"/>
            <a:chOff x="4643280" y="4184640"/>
            <a:chExt cx="3826080" cy="2351160"/>
          </a:xfrm>
        </p:grpSpPr>
        <p:sp>
          <p:nvSpPr>
            <p:cNvPr id="135" name="Text Box 31"/>
            <p:cNvSpPr/>
            <p:nvPr/>
          </p:nvSpPr>
          <p:spPr>
            <a:xfrm>
              <a:off x="6524280" y="4869720"/>
              <a:ext cx="1945080" cy="110196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Création valeur ajoutée filière ameubl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Transposition jeu sérieu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6" name="Picture 29" descr="http://www.bebe-ethique.fr/components/com_virtuemart/shop_image/product/Catapulte_en_boi_4bddbc4fdfe4c.jpg"/>
            <p:cNvPicPr/>
            <p:nvPr/>
          </p:nvPicPr>
          <p:blipFill>
            <a:blip r:embed="rId9"/>
            <a:stretch/>
          </p:blipFill>
          <p:spPr>
            <a:xfrm>
              <a:off x="4680360" y="5513760"/>
              <a:ext cx="1474920" cy="10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31" descr="http://www.justacote.com/photos_entreprises/ikea-tours-1303822857.jpg"/>
            <p:cNvPicPr/>
            <p:nvPr/>
          </p:nvPicPr>
          <p:blipFill>
            <a:blip r:embed="rId10"/>
            <a:stretch/>
          </p:blipFill>
          <p:spPr>
            <a:xfrm>
              <a:off x="4643280" y="4184640"/>
              <a:ext cx="1519920" cy="119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Applications PFEG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98520" y="11970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Comment l’entreprise fixe-t-elle le prix d’un produit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643280" y="3933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Quelles sont les relations entre les acteurs économiques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68360" y="3716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Développement durable : contrainte ou opportunité pour une entrepris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4643280" y="1268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Comment l’entreprise se lance-t-elle sur un nouveau marché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e 2"/>
          <p:cNvGrpSpPr/>
          <p:nvPr/>
        </p:nvGrpSpPr>
        <p:grpSpPr>
          <a:xfrm>
            <a:off x="539640" y="4896000"/>
            <a:ext cx="3891240" cy="1277640"/>
            <a:chOff x="539640" y="4896000"/>
            <a:chExt cx="3891240" cy="1277640"/>
          </a:xfrm>
        </p:grpSpPr>
        <p:pic>
          <p:nvPicPr>
            <p:cNvPr id="144" name="Picture 18" descr=""/>
            <p:cNvPicPr/>
            <p:nvPr/>
          </p:nvPicPr>
          <p:blipFill>
            <a:blip r:embed="rId1"/>
            <a:stretch/>
          </p:blipFill>
          <p:spPr>
            <a:xfrm>
              <a:off x="539640" y="4896000"/>
              <a:ext cx="1800360" cy="12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31"/>
            <p:cNvSpPr/>
            <p:nvPr/>
          </p:nvSpPr>
          <p:spPr>
            <a:xfrm>
              <a:off x="2486160" y="5065560"/>
              <a:ext cx="1944720" cy="82404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Etude des objectifs et des contraintes du projet du tram à Tou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Groupe 1"/>
          <p:cNvGrpSpPr/>
          <p:nvPr/>
        </p:nvGrpSpPr>
        <p:grpSpPr>
          <a:xfrm>
            <a:off x="458640" y="2060640"/>
            <a:ext cx="4046760" cy="1519200"/>
            <a:chOff x="458640" y="2060640"/>
            <a:chExt cx="4046760" cy="1519200"/>
          </a:xfrm>
        </p:grpSpPr>
        <p:pic>
          <p:nvPicPr>
            <p:cNvPr id="147" name="Picture 12" descr=""/>
            <p:cNvPicPr/>
            <p:nvPr/>
          </p:nvPicPr>
          <p:blipFill>
            <a:blip r:embed="rId2"/>
            <a:stretch/>
          </p:blipFill>
          <p:spPr>
            <a:xfrm>
              <a:off x="458640" y="2060640"/>
              <a:ext cx="202572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31"/>
            <p:cNvSpPr/>
            <p:nvPr/>
          </p:nvSpPr>
          <p:spPr>
            <a:xfrm>
              <a:off x="2560680" y="2219400"/>
              <a:ext cx="1944720" cy="118908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Analyse des entreprises d’élevage aviaire et de la fixation du prix des volailles en France et au Mal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Groupe 3"/>
          <p:cNvGrpSpPr/>
          <p:nvPr/>
        </p:nvGrpSpPr>
        <p:grpSpPr>
          <a:xfrm>
            <a:off x="4808520" y="4896000"/>
            <a:ext cx="3867120" cy="1466640"/>
            <a:chOff x="4808520" y="4896000"/>
            <a:chExt cx="3867120" cy="1466640"/>
          </a:xfrm>
        </p:grpSpPr>
        <p:sp>
          <p:nvSpPr>
            <p:cNvPr id="150" name="Text Box 31"/>
            <p:cNvSpPr/>
            <p:nvPr/>
          </p:nvSpPr>
          <p:spPr>
            <a:xfrm>
              <a:off x="6730920" y="4935600"/>
              <a:ext cx="1944720" cy="137160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Présentation journalistique orale écrite (support numérique ou papier) d’un fait d’actualité à incidences économiqu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1" name="Picture 20" descr=""/>
            <p:cNvPicPr/>
            <p:nvPr/>
          </p:nvPicPr>
          <p:blipFill>
            <a:blip r:embed="rId3"/>
            <a:stretch/>
          </p:blipFill>
          <p:spPr>
            <a:xfrm>
              <a:off x="4808520" y="4896000"/>
              <a:ext cx="1792080" cy="14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AutoShape 20"/>
          <p:cNvSpPr/>
          <p:nvPr/>
        </p:nvSpPr>
        <p:spPr>
          <a:xfrm>
            <a:off x="63360" y="-628560"/>
            <a:ext cx="147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22"/>
          <p:cNvSpPr/>
          <p:nvPr/>
        </p:nvSpPr>
        <p:spPr>
          <a:xfrm>
            <a:off x="216000" y="-476280"/>
            <a:ext cx="147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e 6"/>
          <p:cNvGrpSpPr/>
          <p:nvPr/>
        </p:nvGrpSpPr>
        <p:grpSpPr>
          <a:xfrm>
            <a:off x="5162400" y="1973160"/>
            <a:ext cx="3546720" cy="1900440"/>
            <a:chOff x="5162400" y="1973160"/>
            <a:chExt cx="3546720" cy="1900440"/>
          </a:xfrm>
        </p:grpSpPr>
        <p:sp>
          <p:nvSpPr>
            <p:cNvPr id="155" name="Text Box 31"/>
            <p:cNvSpPr/>
            <p:nvPr/>
          </p:nvSpPr>
          <p:spPr>
            <a:xfrm>
              <a:off x="6764040" y="2173680"/>
              <a:ext cx="1945080" cy="128448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Présentation d’une action commerciale B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Création d’une cible à partir d’un réseau soci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6" name="Picture 24" descr="http://noviseo.fr/wp-content/uploads/2012/03/facebook.jpg"/>
            <p:cNvPicPr/>
            <p:nvPr/>
          </p:nvPicPr>
          <p:blipFill>
            <a:blip r:embed="rId4"/>
            <a:stretch/>
          </p:blipFill>
          <p:spPr>
            <a:xfrm>
              <a:off x="5435280" y="3238920"/>
              <a:ext cx="101484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Image 29" descr="I:\Elèves BTS 2008\. 003.jpg"/>
            <p:cNvPicPr/>
            <p:nvPr/>
          </p:nvPicPr>
          <p:blipFill>
            <a:blip r:embed="rId5"/>
            <a:stretch/>
          </p:blipFill>
          <p:spPr>
            <a:xfrm>
              <a:off x="5162400" y="1973160"/>
              <a:ext cx="1428120" cy="1197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1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Projet du tram de Tour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00000" y="1557360"/>
          <a:ext cx="7272360" cy="4683240"/>
        </p:xfrm>
        <a:graphic>
          <a:graphicData uri="http://schemas.openxmlformats.org/drawingml/2006/table">
            <a:tbl>
              <a:tblPr/>
              <a:tblGrid>
                <a:gridCol w="2100240"/>
                <a:gridCol w="5172120"/>
              </a:tblGrid>
              <a:tr h="1008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ème 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ème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Développement durable : contrainte ou opportunité pour l’entreprise 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lles sont les relations entre les acteurs 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Incitations, Rupture technologique, Choix sous contrain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2333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crip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On montrera comment ce qui est perçu souvent comme une contrainte nouvelle peut devenir une opportunité de création de richesses. Dans une perspective à long terme, les relations entre les enjeux écologiques, économiques et sociaux seront mises en avant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On montrera que des incitations peuvent être mises en place afin d’orienter les comportements vers la prise en compte de contraintes, notamment écologiqu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s / Progress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4h30 (3 séquences) en fin d’année scolai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yens organisationne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Accessibilité internet et logiciel powerpoint pour le travail par deux ou trois (recherche informations, réalisation d’un diaporam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268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Sommative   (grille annexe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</a:tbl>
          </a:graphicData>
        </a:graphic>
      </p:graphicFrame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7596360" y="79200"/>
            <a:ext cx="139032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Exploitation du patrimoine de proximité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229600" cy="73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2124000" y="3213000"/>
            <a:ext cx="46087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8:10:44Z</dcterms:created>
  <dc:creator>sylvie.glenisson</dc:creator>
  <dc:description/>
  <dc:language>en-US</dc:language>
  <cp:lastModifiedBy>Famille</cp:lastModifiedBy>
  <dcterms:modified xsi:type="dcterms:W3CDTF">2012-05-13T15:01:26Z</dcterms:modified>
  <cp:revision>78</cp:revision>
  <dc:subject/>
  <dc:title>Diapositive 1</dc:title>
</cp:coreProperties>
</file>